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6D5-1EEE-4B69-AAE5-08DC76DA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6B8-30F9-49D4-9AAC-A302555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84E-F712-4944-BD66-F8DE1C53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C09-7831-4893-B8B7-B59F0FC6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3BC-6418-4AAE-B108-30B2C2F1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692-EE78-47B2-9A8A-465D245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4BC-491D-46F3-84A0-BDE7D69A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1F7-862B-4031-8A15-4B8788A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142-7C4A-4122-9D44-FBCCC8D0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7EB-11EE-41D1-A509-EB3301C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B51-1DCA-42F9-AEE9-691AFB2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40C-2A4A-47FE-B0B2-873FA42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5745-B1CE-487C-AD79-590B7C3EA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194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08720" y="9810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u da kolonen arukikuntzen mapa 1540an kolon hilt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14:21Z</dcterms:created>
  <dc:creator>ik015111zz</dc:creator>
  <dc:description/>
  <dc:language>en-US</dc:language>
  <cp:lastModifiedBy>ik015111zz</cp:lastModifiedBy>
  <dcterms:modified xsi:type="dcterms:W3CDTF">2012-05-18T06:14:29Z</dcterms:modified>
  <cp:revision>1</cp:revision>
  <dc:subject/>
  <dc:title>Diapositiva 1</dc:title>
</cp:coreProperties>
</file>